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47E-D5F1-4FFF-877A-CC1F29E5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A13-8223-44DF-A980-6C37A7CF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8E5-8BD2-43C7-B0FF-CF58B08B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F9F-C469-4363-828A-ED89125A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8A7-0F1D-4CDE-9B0E-F98AD0F2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D34-4222-49D5-95F8-635BC041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B07-F27B-4071-8C8D-296E3325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AC8-D506-48F0-8557-F4790F90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C20-8FE0-4178-94F6-AE0C500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181-EDC9-43DD-A551-12E70E8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DC4-4FD9-4476-BBDB-AEBFCBD2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8B1-76D5-4B9F-985C-C3D3E76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7E89-1284-4449-88F4-C0C301045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Type the answer at the bottom where it says “Click to add no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poweruser</cp:lastModifiedBy>
  <dcterms:modified xsi:type="dcterms:W3CDTF">2011-09-22T21:20:01Z</dcterms:modified>
  <cp:revision>27</cp:revision>
  <dc:subject/>
  <dc:title>PowerPoint Presentation</dc:title>
</cp:coreProperties>
</file>